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686B-7C9E-4B49-84E4-1CFE4D90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0138-C281-4AED-8969-AC46B972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3ED6-AE31-44CC-9C34-5763C477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88CC-7220-4BC8-8F23-43AF01F5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AC4C-F84D-48E5-8358-6475FDD0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872C-4F74-4C7F-A948-3D9CF513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9C69-CAA5-4768-B763-2BC5D6F5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6567-7257-4CFD-97D8-D6A65FE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07FB-862D-4674-BF28-1529769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509A-B609-4E5D-BC5E-486E31D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989D-B1B9-470A-A5CC-8E4CD3D5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9F2D-86EF-4852-B717-37B67C8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47D7-F216-4D64-96F7-901231CCA9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s56.radikal.ru/i153/0908/4e/d14b76adf10d.jpg"/>
          <p:cNvPicPr/>
          <p:nvPr/>
        </p:nvPicPr>
        <p:blipFill>
          <a:blip r:embed="rId1"/>
          <a:stretch/>
        </p:blipFill>
        <p:spPr>
          <a:xfrm>
            <a:off x="0" y="57240"/>
            <a:ext cx="9067680" cy="6800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Антропогенное воздействие на окружающую среду</a:t>
            </a:r>
            <a:br>
              <a:rPr sz="7200"/>
            </a:b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полнить таблиц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1752480"/>
          <a:ext cx="8839440" cy="3048120"/>
        </p:xfrm>
        <a:graphic>
          <a:graphicData uri="http://schemas.openxmlformats.org/drawingml/2006/table">
            <a:tbl>
              <a:tblPr/>
              <a:tblGrid>
                <a:gridCol w="1352520"/>
                <a:gridCol w="3532320"/>
                <a:gridCol w="3954600"/>
              </a:tblGrid>
              <a:tr h="16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 хозяйственной нагруз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кологические последств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ап присваивающего хозяй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20-30 тыс. лет назад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4" name="Picture 2" descr="TimeRime.com - Home"/>
          <p:cNvPicPr/>
          <p:nvPr/>
        </p:nvPicPr>
        <p:blipFill>
          <a:blip r:embed="rId1"/>
          <a:stretch/>
        </p:blipFill>
        <p:spPr>
          <a:xfrm>
            <a:off x="3809880" y="1809720"/>
            <a:ext cx="5229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Первобытное общество - Картинка 14226/65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ирательство, охота и рыболовство; усовершенствование орудий тру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способление человека к природе, практически без нарушения ее целостности, борьба за охотничьи угодья, уничтожение живот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0" name="Picture 5" descr="Позволяют ли Ваши потребности преуспеть в бизнесе?"/>
          <p:cNvPicPr/>
          <p:nvPr/>
        </p:nvPicPr>
        <p:blipFill>
          <a:blip r:embed="rId1"/>
          <a:stretch/>
        </p:blipFill>
        <p:spPr>
          <a:xfrm>
            <a:off x="3581280" y="1504800"/>
            <a:ext cx="57150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ревние цивилизации – этап сельскохозяйственной революции; переход от присваивающего хозяйства к производящему (6-8 тыс.л.н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" name="Picture 5" descr="Стереотипы мышления. Часть 3 SVLV - Информационный портал"/>
          <p:cNvPicPr/>
          <p:nvPr/>
        </p:nvPicPr>
        <p:blipFill>
          <a:blip r:embed="rId1"/>
          <a:stretch/>
        </p:blipFill>
        <p:spPr>
          <a:xfrm>
            <a:off x="3962520" y="2560680"/>
            <a:ext cx="5181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делывание земель, развитие земледелия и скотоводства. Использование древесины как основного источника                                                                         энергии и                                                                      строительного                                                                   матери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http://deepbrazil.com/wp-content/uploads/2010/11/Rugendas1.jpg"/>
          <p:cNvPicPr/>
          <p:nvPr/>
        </p:nvPicPr>
        <p:blipFill>
          <a:blip r:embed="rId1"/>
          <a:srcRect l="1841" t="-1604" r="-1836" b="6208"/>
          <a:stretch/>
        </p:blipFill>
        <p:spPr>
          <a:xfrm>
            <a:off x="2476440" y="2228760"/>
            <a:ext cx="66675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абое преобразование основных ландшафтов; освоение поливных и богарных земель; сокращение лесных площа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5" descr="Рабский труд и нищенская зарплата... &quot; Net23.INFO - Локальный портал сети FTTB Билайн"/>
          <p:cNvPicPr/>
          <p:nvPr/>
        </p:nvPicPr>
        <p:blipFill>
          <a:blip r:embed="rId1"/>
          <a:stretch/>
        </p:blipFill>
        <p:spPr>
          <a:xfrm>
            <a:off x="3429000" y="225756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12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еодальное общество эпохи средневековья – появление частной собственности; разделение общества на классы; этап расширения границ Ойкумены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ек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" name="Picture 5" descr="Фотография Франции. Каркассон. Каркассон - живое Средневековье"/>
          <p:cNvPicPr/>
          <p:nvPr/>
        </p:nvPicPr>
        <p:blipFill>
          <a:blip r:embed="rId1"/>
          <a:srcRect l="0" t="3705" r="0" b="5388"/>
          <a:stretch/>
        </p:blipFill>
        <p:spPr>
          <a:xfrm>
            <a:off x="-1440" y="2832120"/>
            <a:ext cx="91454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величение численности населения; совершенствование сельского хозяйства; вырубка лесов, развитие ремесел, кораблестроение; добыча минеральных ресурсов; переход к использованию вторичных природных ресур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5" descr="Корабль в ночи"/>
          <p:cNvPicPr/>
          <p:nvPr/>
        </p:nvPicPr>
        <p:blipFill>
          <a:blip r:embed="rId1"/>
          <a:stretch/>
        </p:blipFill>
        <p:spPr>
          <a:xfrm>
            <a:off x="2227320" y="2971800"/>
            <a:ext cx="6916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60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образование ландшафтов, изменение естественного растительного покрова, иссушение болот, строительство оросительных каналов; резкое увеличение нагрузки на окружающую природную сред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8" name="Picture 5" descr="Приручение животных - Картинка 15034/22"/>
          <p:cNvPicPr/>
          <p:nvPr/>
        </p:nvPicPr>
        <p:blipFill>
          <a:blip r:embed="rId1"/>
          <a:stretch/>
        </p:blipFill>
        <p:spPr>
          <a:xfrm>
            <a:off x="2438280" y="3046320"/>
            <a:ext cx="67201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ЕРВЫЙ ПУНКТ ЛЕКЦИИ ПРОЧИТАТЬ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ВТОРОМУ ПУНКТУ ЗАПОЛНИТЬ ТАБЛИЦУ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ТРЕТЬЕМУ ПУНКТУ ВЫПИСАТЬ ОПРЕДЕЛЕНИЯ (СЛАЙДЫ 32-35)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зарождения капиталистических отношений, колониальных захватов, великие географические открытия; завоевания и заселения новых земель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II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к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Великие географические открытия. Великие географические открытия европейских путешественников конца 15-в. - середины 17 в. явили"/>
          <p:cNvPicPr/>
          <p:nvPr/>
        </p:nvPicPr>
        <p:blipFill>
          <a:blip r:embed="rId1"/>
          <a:srcRect l="0" t="0" r="25668" b="0"/>
          <a:stretch/>
        </p:blipFill>
        <p:spPr>
          <a:xfrm>
            <a:off x="0" y="380988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фабричного производства, мануфактур; расширение посевных площадей, сведение лесов под пашни для нужд строительства, кораблестро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Россия Словарь по истории России"/>
          <p:cNvPicPr/>
          <p:nvPr/>
        </p:nvPicPr>
        <p:blipFill>
          <a:blip r:embed="rId1"/>
          <a:stretch/>
        </p:blipFill>
        <p:spPr>
          <a:xfrm>
            <a:off x="3657600" y="2981160"/>
            <a:ext cx="55166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ликое переселение народов, освоение новых земель; растущее потребление в использовании минеральных, лесных, водных ресурсов, расширении посевных площадей; рост городов; загрязнение воздушного простран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Красное место - Крепостное право в Енисейской губернии"/>
          <p:cNvPicPr/>
          <p:nvPr/>
        </p:nvPicPr>
        <p:blipFill>
          <a:blip r:embed="rId1"/>
          <a:stretch/>
        </p:blipFill>
        <p:spPr>
          <a:xfrm>
            <a:off x="3048120" y="3446640"/>
            <a:ext cx="60195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развития капитализма; эпоха социальных революций, колониальных войн и грабежа колоний; эпоха промышленной революции (середи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I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середи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ка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Развития капитализма в России &quot; Буквы.Ру Научно-популярный портал"/>
          <p:cNvPicPr/>
          <p:nvPr/>
        </p:nvPicPr>
        <p:blipFill>
          <a:blip r:embed="rId1"/>
          <a:stretch/>
        </p:blipFill>
        <p:spPr>
          <a:xfrm>
            <a:off x="1371600" y="2602080"/>
            <a:ext cx="7758000" cy="42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тущие потребности в минеральных ресурсах; рост фабрично-заводской промышленности, формирование промышленных центров, ускоренная урбанизация; расширение посевных площадей, совершенствование агроидустр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Всемирная история. Том 7 - Книги. Различные темы"/>
          <p:cNvPicPr/>
          <p:nvPr/>
        </p:nvPicPr>
        <p:blipFill>
          <a:blip r:embed="rId1"/>
          <a:stretch/>
        </p:blipFill>
        <p:spPr>
          <a:xfrm>
            <a:off x="3581280" y="3344760"/>
            <a:ext cx="5562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05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образование естественных ландшафтов, постепенное превращение их в природно-антропогенные; замена первичного растительного покрова вторичным; возросшие масштабы воздействия на атмосферу, гидросферу, литосферу, биосферу; рост масштаба потребления природных ресурсов и                                            загрязнения                                                              окружающей сре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Война в США - Независимость США - Картинки по истории"/>
          <p:cNvPicPr/>
          <p:nvPr/>
        </p:nvPicPr>
        <p:blipFill>
          <a:blip r:embed="rId1"/>
          <a:stretch/>
        </p:blipFill>
        <p:spPr>
          <a:xfrm>
            <a:off x="3611520" y="3505320"/>
            <a:ext cx="5543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развитого индустриального общества; ресурсные и национальные конфликты; современный этап НТР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фото: Индустриальный пейзаж II фотограф: Антон Устименко WWW.PHOTODOM.COM"/>
          <p:cNvPicPr/>
          <p:nvPr/>
        </p:nvPicPr>
        <p:blipFill>
          <a:blip r:embed="rId1"/>
          <a:stretch/>
        </p:blipFill>
        <p:spPr>
          <a:xfrm>
            <a:off x="914400" y="2682720"/>
            <a:ext cx="7162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огенез, конкретные изменения в технической базе производства; резкие сдвиги в системе «общество - природная среда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Сборщик RSS-лент Tebe-i-Vsem.ru"/>
          <p:cNvPicPr/>
          <p:nvPr/>
        </p:nvPicPr>
        <p:blipFill>
          <a:blip r:embed="rId1"/>
          <a:stretch/>
        </p:blipFill>
        <p:spPr>
          <a:xfrm>
            <a:off x="2077920" y="2971800"/>
            <a:ext cx="7066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игантские масштабы воздействия человеческого общества на все компоненты окружающей среды; использование ресурсов; глобальное загрязнение планеты; угроза глобального                                                  экологического                                                                  кризиса;                                                                        растущая угроза для                                                       жизни и здоровья                                                           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&quot;Металл Профиль&quot; разработал первые в России стены для промышленных объектов - Пресс-релиз - Глобальный информационно-аналитическ"/>
          <p:cNvPicPr/>
          <p:nvPr/>
        </p:nvPicPr>
        <p:blipFill>
          <a:blip r:embed="rId1"/>
          <a:stretch/>
        </p:blipFill>
        <p:spPr>
          <a:xfrm>
            <a:off x="3581280" y="3003480"/>
            <a:ext cx="556272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Антропогенное воздействие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4" descr="Антропогенное воздействие на экологическую обстановку KM.RU"/>
          <p:cNvPicPr/>
          <p:nvPr/>
        </p:nvPicPr>
        <p:blipFill>
          <a:blip r:embed="rId1"/>
          <a:stretch/>
        </p:blipFill>
        <p:spPr>
          <a:xfrm>
            <a:off x="1828800" y="3333600"/>
            <a:ext cx="5638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5e5ff"/>
                </a:solidFill>
                <a:latin typeface="Garamond"/>
              </a:rPr>
              <a:t>План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" y="9907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Природа и общество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Этапы взаимодействия общества и природы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Антропогенное воздействие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" name="Picture 5" descr="Накопление жизненной энергии. Барри Лонг о энергии Gnosis - мир вокруг нас. Новости планеты"/>
          <p:cNvPicPr/>
          <p:nvPr/>
        </p:nvPicPr>
        <p:blipFill>
          <a:blip r:embed="rId1"/>
          <a:stretch/>
        </p:blipFill>
        <p:spPr>
          <a:xfrm>
            <a:off x="3657600" y="2982960"/>
            <a:ext cx="53722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антропогенным воздействиям относят те виды изменений в окружающей среде, которые вызваны жизнью и деятельностью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9" descr="Экология промышленности"/>
          <p:cNvPicPr/>
          <p:nvPr/>
        </p:nvPicPr>
        <p:blipFill>
          <a:blip r:embed="rId1"/>
          <a:stretch/>
        </p:blipFill>
        <p:spPr>
          <a:xfrm>
            <a:off x="762120" y="1749600"/>
            <a:ext cx="83818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действие человека с окружающей природной средой протекает в различных формах и с различной интенсивностью на всех этапах исторического развития . воздействие человека на природу можно классифицировать различным образ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о может быть: прямое и косвенное; длительное и кратковременное; площадное и точечное; глубинное и поверхностное; статистическое и динамическое; глобальное, региональное и локальное; механическое, физическое, химическое и биологическое и  т.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ассификация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1523880"/>
          <a:ext cx="8991720" cy="5419800"/>
        </p:xfrm>
        <a:graphic>
          <a:graphicData uri="http://schemas.openxmlformats.org/drawingml/2006/table">
            <a:tbl>
              <a:tblPr/>
              <a:tblGrid>
                <a:gridCol w="2133720"/>
                <a:gridCol w="2360520"/>
                <a:gridCol w="2249640"/>
                <a:gridCol w="2247840"/>
              </a:tblGrid>
              <a:tr h="3355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миссио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ново -параметрическ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андшафтно-деструктив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намере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преднамере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</a:tr>
              <a:tr h="536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брос загрязняющих природных веществ в воздух, в воду, в почву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пловое, радиоактивное, шумовое, ионизирующее загрязнение (оцениваются измерением их параметров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вляется осознанным, когда человек ожидает определенный результат своей деятельности. Т.Е. приспособление среды к своим потребностям ее «улучшение»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вляется неосознанным, когда человек не предполагет последствий своей деятельности. Они чаще проявляются как побочные эффек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правления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600200"/>
          <a:ext cx="8763120" cy="512136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621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ъятие веществ и энергии из природной среды (добыча полезных ископаемых, вырубка лесо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внесение в природную среду веществ и энергии, ранее не существовавших в природе, либо существовавших в незначительных количествах (отходы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образование природных объек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мелиорация земель, создание искусственных водоемов, осушение болот)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храна используемых природных объектов и окружающей среды в цело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676520"/>
          <a:ext cx="8991720" cy="4952880"/>
        </p:xfrm>
        <a:graphic>
          <a:graphicData uri="http://schemas.openxmlformats.org/drawingml/2006/table">
            <a:tbl>
              <a:tblPr/>
              <a:tblGrid>
                <a:gridCol w="2997360"/>
                <a:gridCol w="2997000"/>
                <a:gridCol w="299736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руш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билизирующ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структив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</a:tr>
              <a:tr h="487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ведущая к утрате природной средой своих полезных человеку качеств (потеря плодородия почв в результате сведения лесов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направленная на замедление деструкций природной среды в результате, как хозяйственной деятельности человека, так и природных процессов (почвозащитные мероприят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направленная на восстановление природной среды, нарушенной в результате хозяйственной деятельности, и человека или природных процессов (восстановление редких видов животных и растен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рмы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1752480"/>
          <a:ext cx="8686800" cy="480060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структуры земной поверхности (распашка, горнодобыча, вырубк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круговорота и баланса веществ (добыча полезных ископаемых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энергетического баланса (теплообмен, потепление климат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состава животного и растительного мира (истреблени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нтропогенных воздейств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371600"/>
          <a:ext cx="8839440" cy="5334120"/>
        </p:xfrm>
        <a:graphic>
          <a:graphicData uri="http://schemas.openxmlformats.org/drawingml/2006/table">
            <a:tbl>
              <a:tblPr/>
              <a:tblGrid>
                <a:gridCol w="4267440"/>
                <a:gridCol w="4572000"/>
              </a:tblGrid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ые» воздейств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трицательные» воз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0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воспроизводство природных ресурс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восстановление запасов воды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полезащитное лесоразведен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рекультивация земель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истощение природных ресурс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деградация природных ландшафт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сокращение многообразия вид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ухудшение здоровья человека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Природа и общество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7" name="Picture 4" descr="Природа делает нас лучше и щедрее"/>
          <p:cNvPicPr/>
          <p:nvPr/>
        </p:nvPicPr>
        <p:blipFill>
          <a:blip r:embed="rId1"/>
          <a:stretch/>
        </p:blipFill>
        <p:spPr>
          <a:xfrm>
            <a:off x="0" y="2994120"/>
            <a:ext cx="91440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Как нарисовать красивый закат Учитесь рисовать"/>
          <p:cNvPicPr/>
          <p:nvPr/>
        </p:nvPicPr>
        <p:blipFill>
          <a:blip r:embed="rId1"/>
          <a:srcRect l="0" t="0" r="9700" b="0"/>
          <a:stretch/>
        </p:blipFill>
        <p:spPr>
          <a:xfrm>
            <a:off x="-76320" y="63360"/>
            <a:ext cx="9220320" cy="6807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39621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д природой понимают все то, что существует во вселенной, т.е. органический и неорганический мир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еловеческое обществ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вокупность людей, объединенных исторически обусловленными социально политико-экономическими формами совместной жизни и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5" descr="Сколько людей на планете"/>
          <p:cNvPicPr/>
          <p:nvPr/>
        </p:nvPicPr>
        <p:blipFill>
          <a:blip r:embed="rId1"/>
          <a:stretch/>
        </p:blipFill>
        <p:spPr>
          <a:xfrm>
            <a:off x="3505320" y="2978280"/>
            <a:ext cx="56386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Панорама Новости Армении"/>
          <p:cNvPicPr/>
          <p:nvPr/>
        </p:nvPicPr>
        <p:blipFill>
          <a:blip r:embed="rId1"/>
          <a:stretch/>
        </p:blipFill>
        <p:spPr>
          <a:xfrm>
            <a:off x="2362320" y="2097000"/>
            <a:ext cx="6667560" cy="4781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истем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Человек – окружающая среда» -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очень сложная поликомпонентная система, включающая человека (организм, личность, общество) и окружающую среду в историческом процессе их взаимодейств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ду природой и обществом существуют сложные взаимодействия, обмен веществом и энерги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Домбай турфирмы воронежа,загранпаспорт,оформление загранпаспортов, туристические фирмы воронежа, турагентс"/>
          <p:cNvPicPr/>
          <p:nvPr/>
        </p:nvPicPr>
        <p:blipFill>
          <a:blip r:embed="rId1"/>
          <a:stretch/>
        </p:blipFill>
        <p:spPr>
          <a:xfrm>
            <a:off x="213372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Виденье природы от фотографа Hougaard Malan &quot; NIFIGA-SEBE.RU - фотографии, клипарты, вектор, картинки и шаблоны"/>
          <p:cNvPicPr/>
          <p:nvPr/>
        </p:nvPicPr>
        <p:blipFill>
          <a:blip r:embed="rId1"/>
          <a:srcRect l="0" t="0" r="1428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Этапы взаимодействия общества и приро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9-13T04:34:2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